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3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B93-5D2A-423C-BBA0-76D34D8C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FBB-8666-4F94-AC49-5898B3A3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F47-5278-46C3-87F9-EA659CF5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39E-F73F-401A-9763-CFE90E28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F8C-E7CD-4038-9150-F03C9BCC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EE2-1927-41F0-B6A4-0590F321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4D1-D420-4631-9EBC-65C4F1D4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FE8-BFE5-4532-895B-46A6C303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8E2-98DF-4E6E-8ED3-D72E7ED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DC7-7DCE-46E8-A82D-56077D67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1EC-228C-47D3-B7DA-B58B9222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20E-AFBF-4B68-AD6E-05E12F93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5ACA-6129-4D0F-9A2F-F207875845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%5C..%5Cvideos%5Cfoodie%5Cmacro%5C(Macro)%20Episode%2033%20-%20Exchange%20Rates%20-%20YouTube.fl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CjwXz7ZXwU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xchange-Rates1"/>
          <p:cNvPicPr/>
          <p:nvPr/>
        </p:nvPicPr>
        <p:blipFill>
          <a:blip r:embed="rId1"/>
          <a:stretch/>
        </p:blipFill>
        <p:spPr>
          <a:xfrm>
            <a:off x="4857840" y="4133880"/>
            <a:ext cx="4286160" cy="2724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30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change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1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B Chapter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5eed2__currency_exchange_1"/>
          <p:cNvPicPr/>
          <p:nvPr/>
        </p:nvPicPr>
        <p:blipFill>
          <a:blip r:embed="rId2"/>
          <a:stretch/>
        </p:blipFill>
        <p:spPr>
          <a:xfrm>
            <a:off x="250920" y="18900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689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Factors affecting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0093"/>
                </a:solidFill>
                <a:latin typeface="Calibri"/>
                <a:ea typeface="Calibri"/>
              </a:rPr>
              <a:t>Relative interes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 increase in th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relativ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rate of interest in the UK should lead to an increase in the demand for ste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Hot money – enormous pool of money owned by companies and rich individuals that moves around the world seeking the highest interest rate (return) with leas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his will increase the demand for sterling making it appreciate i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mports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Exports mor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f imports/exports are elastic BoP will be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May lead to rise in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_5_orig"/>
          <p:cNvPicPr/>
          <p:nvPr/>
        </p:nvPicPr>
        <p:blipFill>
          <a:blip r:embed="rId1"/>
          <a:stretch/>
        </p:blipFill>
        <p:spPr>
          <a:xfrm>
            <a:off x="6091200" y="2195640"/>
            <a:ext cx="28065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97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Factors affecting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d60093"/>
                </a:solidFill>
                <a:latin typeface="Calibri"/>
                <a:ea typeface="Calibri"/>
              </a:rPr>
              <a:t>Inflation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 has led to the depreciation of sterling (when inflation is rising faster than the 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Less revenue from ex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o maintain export earning the UK must increase ex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n the UK foreign demand (exports) tends to be price elastic so this should benefit the Bo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mports appear to be inelastic so more is spent on im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Overall depreciation benefits UK – Marshall-Lerner condition hol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All depends on the P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Depreciation leads to increasing inflation possibly leading to inflationary spi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f more exports are required there may be a need for more capacity – government may need to take steps to ensure that the goods are not consumed domestically (with imports being more expensiv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hina-exports-inflation-to-us"/>
          <p:cNvPicPr/>
          <p:nvPr/>
        </p:nvPicPr>
        <p:blipFill>
          <a:blip r:embed="rId1"/>
          <a:stretch/>
        </p:blipFill>
        <p:spPr>
          <a:xfrm>
            <a:off x="6084720" y="2252520"/>
            <a:ext cx="30038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582480"/>
            <a:ext cx="9070920" cy="1609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332000" y="2341440"/>
            <a:ext cx="604836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97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Factors affecting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60093"/>
                </a:solidFill>
                <a:latin typeface="Calibri"/>
                <a:ea typeface="Calibri"/>
              </a:rPr>
              <a:t>Foreign Direct Investment (FDI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 Less revenue from ex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FDI = flows of capital (long term investment opposed to short term hot mone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Usually to set up a factory or purchase shares in a foreign busi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ncrease in FDI increases demand leading to appreciating curr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ncreasing inflows of FDI into Asia leads to an appreciation of the Asian curren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60093"/>
                </a:solidFill>
                <a:latin typeface="Calibri"/>
                <a:ea typeface="Calibri"/>
              </a:rPr>
              <a:t>Trade and current account defic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mporting more increases the supply of their currency which depreciates the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f the deficits are persistent or a large percentage of GDP speculators may feel the value will fall and se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Causes uncertain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fdi"/>
          <p:cNvPicPr/>
          <p:nvPr/>
        </p:nvPicPr>
        <p:blipFill>
          <a:blip r:embed="rId1"/>
          <a:stretch/>
        </p:blipFill>
        <p:spPr>
          <a:xfrm>
            <a:off x="6359400" y="1989000"/>
            <a:ext cx="2784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770200" y="4219560"/>
            <a:ext cx="4394160" cy="26827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Fixed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Fixed exchange rates have fallen out of fashion with the increased supply-side emphasis on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UK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 exchange rate was fixed between 1944 and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n again in 1990 to 91 when the UK joined the ERM (Exchange Rate Mecha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major problem – when rates were fixed they were realistic but changes in the market meant they were very different from the marke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is was du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ifference in inflation rates between countries causing the £ to deprec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ifference in growth rates – high growth rates (long term) reduces prices of goods causing the currency to apprec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Fixed exchange rates vulnerable to spe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511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Fixed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f the government fixes the exchange rate at 50p to the dollar as seen in th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nitial equilibrium where B dollars are dema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An increase in the demand for dollars to D1 creates a disequilibrium situation because supply is fixed at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f the dollar was would have appreciated to 60p with a floating exchange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central bank would sell AB dollars out of its foreign currency reserves to stop the dollar appreciating to 60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It may also have regulations in place to restrict exchanges between sterling and other curr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948360" y="220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 18.4 P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age 3"/>
          <p:cNvPicPr/>
          <p:nvPr/>
        </p:nvPicPr>
        <p:blipFill>
          <a:blip r:embed="rId1"/>
          <a:stretch/>
        </p:blipFill>
        <p:spPr>
          <a:xfrm>
            <a:off x="5749920" y="1197000"/>
            <a:ext cx="3403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age 3"/>
          <p:cNvPicPr/>
          <p:nvPr/>
        </p:nvPicPr>
        <p:blipFill>
          <a:blip r:embed="rId1"/>
          <a:stretch/>
        </p:blipFill>
        <p:spPr>
          <a:xfrm>
            <a:off x="5749920" y="1197000"/>
            <a:ext cx="340344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97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Fixed exchang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f the imbalance were maintained there would be a continuous drain on reser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authorities cou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bandon the fixed rate allowing sterling to find its own level with market fo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ake steps to restrict the demand for dollars by following a deflationary domestic polic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Could be an increase in tax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More likely to be an increase in interest r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Notice that if you use fixed exchange rates you would need to use monetary policy which you need to control inf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Variations of the totally fixed rate could be u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djustable peg – currencies could be changed to new fixed val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Crawling peg – could change values weekly or month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920" y="36000"/>
            <a:ext cx="496872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Fixed exchange rates – a run on the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A further problem with fixed rates was speculation where hot money flows would virtually determine whether the currency was revalued or devalu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diagram shows fixed rates in terms of Pounds and Deutschmarks (as was the case with the ER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2.95 DMs to the pound is the fixed r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f speculators thought the pound was overvalued and only maintained by high interest rates they would sell (S to S1) and buy back later at the devalued 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f UK authorities wanted to support the sterling they would buy AB ster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If the market still thought devaluation was going to happen more banks and financial institutions will sell pound shifting the supply to S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435640" y="158760"/>
            <a:ext cx="34574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alu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when the authorities increase the value of their currency against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435640" y="1197000"/>
            <a:ext cx="34052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alu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when the authorities decrease the value of their currency against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page 5"/>
          <p:cNvPicPr/>
          <p:nvPr/>
        </p:nvPicPr>
        <p:blipFill>
          <a:blip r:embed="rId1"/>
          <a:stretch/>
        </p:blipFill>
        <p:spPr>
          <a:xfrm>
            <a:off x="5378400" y="2421000"/>
            <a:ext cx="3702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4968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Fixed exchange rates – a run on the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authorities cou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Raise interest rates to increase demand for the curr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Investors may still be reluctant to buy a currency that they think is overval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y could raise a loan to borrow foreign currency in order to purchase sterling and maintain its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Governments don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 like official lo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If they borrow money from the IMF for example there are normally conditions that regard future economic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UK chancellor had to borrow DMs from the Bundesbank but the speculative flows were too large and the UK was forced to leave the 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877080" y="364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 18.5 P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435640" y="158760"/>
            <a:ext cx="345744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International Monetary Fund – a multinational institution set up in 1947 to operate the adjustable peg exchange ra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page 5"/>
          <p:cNvPicPr/>
          <p:nvPr/>
        </p:nvPicPr>
        <p:blipFill>
          <a:blip r:embed="rId1"/>
          <a:stretch/>
        </p:blipFill>
        <p:spPr>
          <a:xfrm>
            <a:off x="5442120" y="2060640"/>
            <a:ext cx="37018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6877080" y="364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 18.5 P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28440" y="314280"/>
            <a:ext cx="928368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511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3399"/>
                </a:solidFill>
                <a:latin typeface="Calibri"/>
                <a:ea typeface="Calibri"/>
              </a:rPr>
              <a:t>Floating Exchange r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exchange rate between two currencies is the price of one in terms of the o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first diagram shows the market for doll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demand for dollars comes from the UK which offers pounds in exch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supply of dollars come from the US to buy the pou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Both countries demand each other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currency 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Purchase each other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goo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o purchase each other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o invest in each other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fi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o specul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To put funds in each others banks when the rate of interest increa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Equilibrium price is 50p ($1 exchanged for 50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age 1"/>
          <p:cNvPicPr/>
          <p:nvPr/>
        </p:nvPicPr>
        <p:blipFill>
          <a:blip r:embed="rId1"/>
          <a:stretch/>
        </p:blipFill>
        <p:spPr>
          <a:xfrm>
            <a:off x="5307120" y="836640"/>
            <a:ext cx="3857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The case for a fixed exchang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inforcing comparative advan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89080" y="1125360"/>
            <a:ext cx="8854920" cy="261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usd-cny"/>
          <p:cNvPicPr/>
          <p:nvPr/>
        </p:nvPicPr>
        <p:blipFill>
          <a:blip r:embed="rId2"/>
          <a:stretch/>
        </p:blipFill>
        <p:spPr>
          <a:xfrm>
            <a:off x="2268360" y="3789360"/>
            <a:ext cx="4286520" cy="2828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6948360" y="4149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xed or Flexible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P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5400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A managed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 fixed rate make it impossible to concentrate the use of the rate of interest on inflation targe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 free floating exchange rate can lead to large changes in the price of imports and ex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 managed float where sterling is free to fluctuate between levels is the alterna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n the diagram assume that the UK government sets an upper limit (a ceiling price) of 2 Euros to the £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lower limit (floor price) is 1 Euro to the £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If the price were any lower it would make imports into the UK too expensive and bring inflationary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exchange rate can be seen as a trade off between too much inflationary pressure from import prices and competitive export prices to improve the balance of pay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77080" y="364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 18.6 P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724360" y="158760"/>
            <a:ext cx="31687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ty flo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anipulation of a floating rate to gain advantages over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age 4"/>
          <p:cNvPicPr/>
          <p:nvPr/>
        </p:nvPicPr>
        <p:blipFill>
          <a:blip r:embed="rId1"/>
          <a:stretch/>
        </p:blipFill>
        <p:spPr>
          <a:xfrm>
            <a:off x="5648400" y="2060640"/>
            <a:ext cx="3321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124920"/>
            <a:ext cx="468144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A managed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authorities will try to manage the exchange rate by buying and selling poun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When the pound rises near to two Euros the authorities will se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As it falls lower to 1 euro it will bu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Should they manipulate the currency in order to gain advantage over their trading partners this is known as dirty flo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The upper and lower levels are not publicised by the authorities so it is difficult to specul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By using the managed float the authorities can obtain the advantages of both floating and fixed exchange r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877080" y="364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 18.6 P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148360" y="158760"/>
            <a:ext cx="374472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ty flo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anipulation of a floating rate to gain advantages over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age 4"/>
          <p:cNvPicPr/>
          <p:nvPr/>
        </p:nvPicPr>
        <p:blipFill>
          <a:blip r:embed="rId1"/>
          <a:stretch/>
        </p:blipFill>
        <p:spPr>
          <a:xfrm>
            <a:off x="4970520" y="1268280"/>
            <a:ext cx="4032360" cy="4896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468360" y="5445000"/>
            <a:ext cx="4319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90 Student Work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6888" t="9377" r="12125" b="16916"/>
          <a:stretch/>
        </p:blipFill>
        <p:spPr>
          <a:xfrm>
            <a:off x="114480" y="585720"/>
            <a:ext cx="8988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  <a:ea typeface="Calibri"/>
              </a:rPr>
              <a:t>Ke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  <a:ea typeface="Calibri"/>
              </a:rPr>
              <a:t>Deprecia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= A decrease in the value of a countr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s currency in a floating exchange r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  <a:ea typeface="Calibri"/>
              </a:rPr>
              <a:t>Appreciation =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An increase in the value of a countr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s currency in a floating exchange r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  <a:ea typeface="Calibri"/>
              </a:rPr>
              <a:t>Devalua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= A decrease in the value of a countr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s currency in a fixed exchange r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alibri"/>
                <a:ea typeface="Calibri"/>
              </a:rPr>
              <a:t>Revaluation =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An increase in the value of a countr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s currency in a fixed exchange r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95280" y="404640"/>
            <a:ext cx="8424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Calibri"/>
              </a:rPr>
              <a:t>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Mjmfood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Work through all of the student workpoints in the Exchange rate chapter (to hand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HL work through the two HL assessment advices (to hand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Next week: During each lesson there will be some kind of assessment on international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Revise for homework (revise for 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511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3399"/>
                </a:solidFill>
                <a:latin typeface="Calibri"/>
                <a:ea typeface="Calibri"/>
              </a:rPr>
              <a:t>Floating Exchange r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Demand for US goods and services increases which increases the demand for the dol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D shifts to D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dollar is now worth more (£1) – it has appre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sterling has depreciated against the dollar – it is worth less in terms of the dol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Weak pound exports cheap (WIDE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Assuming that exports are elastic the BoP will impr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If exports improve the UK will have to supply more sterling (when the US demands it in exchange for the dolla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S shifts to S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Calibri"/>
              </a:rPr>
              <a:t>The price of the pound (in terms of the dollar) goe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191200" y="5529240"/>
            <a:ext cx="403200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yCjwXz7ZXw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k guy – BoP and exchang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age 1"/>
          <p:cNvPicPr/>
          <p:nvPr/>
        </p:nvPicPr>
        <p:blipFill>
          <a:blip r:embed="rId2"/>
          <a:stretch/>
        </p:blipFill>
        <p:spPr>
          <a:xfrm>
            <a:off x="6114960" y="0"/>
            <a:ext cx="2527560" cy="311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page 1"/>
          <p:cNvPicPr/>
          <p:nvPr/>
        </p:nvPicPr>
        <p:blipFill>
          <a:blip r:embed="rId3"/>
          <a:stretch/>
        </p:blipFill>
        <p:spPr>
          <a:xfrm>
            <a:off x="6249960" y="2997360"/>
            <a:ext cx="21877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353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Floating Exchang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ings that increase the demand for the £ from the 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ncrease in interest rates relative to the US causes a flow of hot money (dollars coming to the U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 rise in demand for UK exports by the 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f speculators think the value of the sterling will fall and the dollar to increase they will buy ster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 floating exchange rate is one that is dictated by the mar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745feac8-b59d-11dd-ab71-0000779fd18c"/>
          <p:cNvPicPr/>
          <p:nvPr/>
        </p:nvPicPr>
        <p:blipFill>
          <a:blip r:embed="rId1"/>
          <a:stretch/>
        </p:blipFill>
        <p:spPr>
          <a:xfrm>
            <a:off x="1042920" y="3941640"/>
            <a:ext cx="67820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689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3399"/>
                </a:solidFill>
                <a:latin typeface="Calibri"/>
                <a:ea typeface="Calibri"/>
              </a:rPr>
              <a:t>Advantages of a Floating Exchange r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utomatic adjustment mean that a country with a large balance of payments will see their exchange rate depreciating which means the price of exports will fall and become more competitive leading to an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  <a:ea typeface="Calibri"/>
              </a:rPr>
              <a:t>improvement in the B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duced speculative pressure – if there are fixed exchange rates speculators will sell and then repurchase when the price has f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f there is a large amount of speculation this may force governments to reduce the value of the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peculators will gain by selling it at one price and buying back at a low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nder floating exchange rates countries cannot be forced to devalue and speculators have no idea how far a central bank will allow its currency to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  <a:ea typeface="Calibri"/>
              </a:rPr>
              <a:t>currency is more 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f government does not have to maintain the level of a fixed exchange rate it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  <a:ea typeface="Calibri"/>
              </a:rPr>
              <a:t>will not have to hold such large foreign exchange rese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floating-exchange-rate"/>
          <p:cNvPicPr/>
          <p:nvPr/>
        </p:nvPicPr>
        <p:blipFill>
          <a:blip r:embed="rId1"/>
          <a:stretch/>
        </p:blipFill>
        <p:spPr>
          <a:xfrm>
            <a:off x="5977080" y="1628640"/>
            <a:ext cx="3166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5257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Advantages of a Floating Exchang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f government does not have to maintain the level of a fixed exchange rate it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will not have to hold such large foreign exchang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Freedom (autonomy) for domestic monetary poli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This is arguably the most important advantage of having a floating exchang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sence of an exchange rate target allows short term interest rates to be set to meet domestic economic objectives such as controlling inflation or stabilising the economic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-floating-exchange-rate"/>
          <p:cNvPicPr/>
          <p:nvPr/>
        </p:nvPicPr>
        <p:blipFill>
          <a:blip r:embed="rId1"/>
          <a:stretch/>
        </p:blipFill>
        <p:spPr>
          <a:xfrm>
            <a:off x="5651640" y="1413000"/>
            <a:ext cx="2981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689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3399"/>
                </a:solidFill>
                <a:latin typeface="Calibri"/>
                <a:ea typeface="Calibri"/>
              </a:rPr>
              <a:t>Disadvantages of a Floating Exchange r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No guarantee to solve BoP problem – depends on the PEDs for exports and im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Effect on domestic inflation – when the currency depreciates imports increase in 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Raw materials more expensive and firm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costs go 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Pass on to consumer with higher pr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Demand for higher w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Uncertainty – since the removal of exchange controls massive capital flows can occur leading to large changes in a currency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s 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Rapid increases lead to unemploy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Falls lead to increasing inf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Foreign currency reserves have not really become redundant because most governments buy and sell their currency to maintain what they think should be an optimal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372360" y="260280"/>
            <a:ext cx="252072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change contro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restrictions on the ability to trade foreign currencies by a count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RMB"/>
          <p:cNvPicPr/>
          <p:nvPr/>
        </p:nvPicPr>
        <p:blipFill>
          <a:blip r:embed="rId1"/>
          <a:stretch/>
        </p:blipFill>
        <p:spPr>
          <a:xfrm>
            <a:off x="5975280" y="2421000"/>
            <a:ext cx="3168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400_F_23980921_ywe5R6Gt94O61D7tKcJR8zzcBdr4195q"/>
          <p:cNvPicPr/>
          <p:nvPr/>
        </p:nvPicPr>
        <p:blipFill>
          <a:blip r:embed="rId1"/>
          <a:stretch/>
        </p:blipFill>
        <p:spPr>
          <a:xfrm>
            <a:off x="2916360" y="3548160"/>
            <a:ext cx="3232080" cy="3232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rcRect l="7475" t="9377" r="8659" b="36771"/>
          <a:stretch/>
        </p:blipFill>
        <p:spPr>
          <a:xfrm>
            <a:off x="395280" y="69840"/>
            <a:ext cx="8207280" cy="329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442800" y="3378240"/>
            <a:ext cx="8134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rcRect l="19285" t="16916" r="19881" b="15041"/>
          <a:stretch/>
        </p:blipFill>
        <p:spPr>
          <a:xfrm>
            <a:off x="1476360" y="2870280"/>
            <a:ext cx="5686560" cy="3975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Trade weighted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sterling Exchange Rate Index (ERI) is the same as the Effective Exchange Rate Index (E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 weighted index of sterling's value against a basket of currencies the weights used calculated by the importance of trade between the UK and each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d by economies to compare their exchange rate against those of their major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3:51:22Z</dcterms:created>
  <dc:creator>Rom</dc:creator>
  <dc:description/>
  <dc:language>en-US</dc:language>
  <cp:lastModifiedBy>Julia</cp:lastModifiedBy>
  <dcterms:modified xsi:type="dcterms:W3CDTF">2015-07-12T10:43:12Z</dcterms:modified>
  <cp:revision>17</cp:revision>
  <dc:subject/>
  <dc:title>Exchange Rates</dc:title>
</cp:coreProperties>
</file>